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35CD-709D-4714-B83A-DC3C3629E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0980-AC95-4EE6-B009-C72713812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B4DF-520C-4F74-9FDB-415BEE142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F03E-4DB5-449C-BEE1-C61F27DEC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0779-ECF4-4A0A-BCC0-D1C525EA3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C3E4-C969-4EF8-8DC6-1E180D338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A6FB-E567-42C6-878E-A3539C2E3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67B5-AE8D-49D2-827B-DB08B53DA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1F63-67EA-4882-A173-DD711A476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32CE-649C-4318-A86D-784B8E04B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E2E4-5BA2-443E-8910-84278A212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2340-6D36-48B9-9645-CD56936F5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48E9-FC03-4DCF-B340-5652706F3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2C31-0CFF-4C1B-BF74-CA4117E31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3DBF-4EFB-4656-BBD8-93A79FED6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75F9-02D4-474D-9BDE-99E033FC6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A148-B5CC-4252-9155-777A58FFF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2933-C303-41CF-9F8E-776B10EFC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3065-A149-447C-BAAC-B8F486810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599D-3670-47C5-AC17-0AEE8DDC0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1A14-5323-4F6B-B78C-5EA2ED3E7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643A-D8DF-4FC6-96D1-14E6327F4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0E96-8733-466B-8FC3-3DB1F43E2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69A5-23D4-4FD6-A223-0CC4D1978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942E-48E7-409B-89E4-93CB55D33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D7E6-3214-40EE-9C66-C03A857F1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DE59-D6D5-4B78-B5E4-E24013E19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91B6-9B40-452F-B8E8-BE26D156A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0F7B-ED0F-42C0-BDC1-495E32D05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42EB-17F7-4413-A369-DF758F3E9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8354-41A6-437C-BA7C-6A458EB5D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328E-FD0C-45F9-AAFF-195D6E79C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C945-64D1-4170-A94E-01A41BF74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351B-E7A6-4B7D-AD23-05B31D3CB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F30B-68FB-44E6-949C-029EF701E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ED08-D6E8-4136-9369-4A533965C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26FE-C042-47E8-8546-FF618CCF9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823B-417E-4A1D-9C64-77D75CF17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C38A-9419-4A3B-B5B3-8946FE83D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79E1-09FC-4A50-A6D3-0D6223823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72AA-9C4E-453D-9D0E-BB1167312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8040-D9C6-4AD7-83A9-4CD19CA08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1418-1CF5-4955-B58C-F4CC19CB4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61B4-CE7D-4D73-B2A1-78F6A57CB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8120-30E0-4952-A943-C50EBEC00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2DB2-B460-4042-A37F-62436A9BF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CF50-6520-41E3-9778-E3FB4F4BE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F88B-A282-4F3D-A182-2DE1550C0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954B-49FA-4627-95A8-E3B3F194A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D7A9-F4C6-41FA-8CF8-A1336F967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B8D4-3D77-4E2C-9D26-C67282B5D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3224-C6D2-4171-9203-0DA43876C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35F1-24A8-41D5-A448-F8B5E96CD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BD52-2CB7-4A16-8613-B7F0F0990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DF32-79F4-4C43-88FD-3627AEC66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05C1-3469-4CF7-BD3F-03CE43C29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F601-6642-469B-AA59-7D9432247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60DF-9513-4770-9F0A-2F3508702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FAA2-0D6A-4FAE-B790-4EC780F82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59AE-37C0-4D56-B422-4DB91B7FD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754F-62D0-48CD-8AFF-0FD407234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30A4-D266-465D-AE56-11003A109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7FE0-C300-4257-9A34-117A9B35C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81FA-AF93-4710-A71F-8220C966E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1E29-0DB0-4A58-9C3A-F1A110A91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95B7-44FA-4F8F-8DFF-D60DC230F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A662-0613-4A68-8620-D287547DF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41D0-16FE-4413-9AD5-499F335B3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02FA-9047-47F7-835E-7F760C038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EC92-D486-493C-A87E-CC14BBE19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51A3-0CA0-41BD-9594-EBED2958D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92F51-BAC9-40D7-B6AB-B4D7B8AB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118B3-1530-4A13-B493-948CE0D9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E682C-DC14-453D-9995-D79976DB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A82E9-52C9-459B-887C-EDC547E2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BAC4A-9811-4709-A8D5-79A3DE42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537CC-035F-4E72-B4B6-59481E3E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CB57B-9548-4295-8AF8-3A298615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57EAC-E7B8-4D67-B8CE-B26019D7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2EF90-1554-4EB6-93FB-37C185F8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C65F6-D188-4CC6-BC98-CFEAA6EC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9A228-2ECA-40DE-84EB-97AE5B49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6B2B2-F8F2-446E-B0F9-6BFD9A82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B9EF-F493-4844-B973-40FE25E4A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5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8158320" y="5807160"/>
              <a:ext cx="598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Aci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Ba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754344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82e3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Chapter 16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Acids and Bases</a:t>
            </a:r>
            <a:endParaRPr b="0" lang="en-US" sz="6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onjugate Acids and Ba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eactions between acids and bases always yield their conjugate bases and acid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9" name="Picture 5" descr="16_03-01UN"/>
          <p:cNvPicPr/>
          <p:nvPr/>
        </p:nvPicPr>
        <p:blipFill>
          <a:blip r:embed="rId1"/>
          <a:srcRect l="0" t="0" r="0" b="6452"/>
          <a:stretch/>
        </p:blipFill>
        <p:spPr>
          <a:xfrm>
            <a:off x="1905120" y="2971800"/>
            <a:ext cx="5311800" cy="228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cid and Base Strengt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14800" y="175212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trong acids are completely dissociated in wa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ir conjugate bases are quite weak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ak acids only dissociate partially in wa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ir conjugate bases are stronger weak bases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2" name="Picture 5" descr="16_04"/>
          <p:cNvPicPr/>
          <p:nvPr/>
        </p:nvPicPr>
        <p:blipFill>
          <a:blip r:embed="rId1"/>
          <a:srcRect l="0" t="0" r="0" b="3075"/>
          <a:stretch/>
        </p:blipFill>
        <p:spPr>
          <a:xfrm>
            <a:off x="176040" y="1752480"/>
            <a:ext cx="3672000" cy="426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cid and Base Strengt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14800" y="175212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ubstances with negligible acidity do not dissociate in wa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ir conjugate bases are exceedingly strong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5" name="Picture 4" descr="16_04"/>
          <p:cNvPicPr/>
          <p:nvPr/>
        </p:nvPicPr>
        <p:blipFill>
          <a:blip r:embed="rId1"/>
          <a:srcRect l="0" t="0" r="0" b="3075"/>
          <a:stretch/>
        </p:blipFill>
        <p:spPr>
          <a:xfrm>
            <a:off x="176040" y="1752480"/>
            <a:ext cx="3672000" cy="426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cid dissociation constant K</a:t>
            </a:r>
            <a:r>
              <a:rPr b="0" lang="en-US" sz="60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A(aq) </a:t>
            </a:r>
            <a:r>
              <a:rPr b="0" lang="en-US" sz="3200" spc="-1" strike="noStrike">
                <a:solidFill>
                  <a:srgbClr val="c82e32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H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aq) + A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[H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[A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    [HA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e can write the expression for any acid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trong acids dissociate completely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Equilibrium far to right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onjugate base must be weak. 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1905120" y="251460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cid and Base Strengt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any acid-base reaction, the equilibrium will favor the reaction that moves the proton to the stronger bas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207080" y="2819520"/>
            <a:ext cx="643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Cl 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Cl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685800" y="3505320"/>
            <a:ext cx="7505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 is a much stronger base than Cl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so the equilibrium lies so far to the right that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not measured (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&gt;&gt;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cid and Base Strengt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any acid-base reaction, the equilibrium will favor the reaction that moves the proton to the stronger bas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85800" y="3962520"/>
            <a:ext cx="73915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cetate is a stronger base than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, so the equilibrium favors the left side (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&lt;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2"/>
          <p:cNvGrpSpPr/>
          <p:nvPr/>
        </p:nvGrpSpPr>
        <p:grpSpPr>
          <a:xfrm>
            <a:off x="172800" y="3048120"/>
            <a:ext cx="8654400" cy="611640"/>
            <a:chOff x="172800" y="3048120"/>
            <a:chExt cx="8654400" cy="611640"/>
          </a:xfrm>
        </p:grpSpPr>
        <p:sp>
          <p:nvSpPr>
            <p:cNvPr id="87" name="Rectangle 4"/>
            <p:cNvSpPr/>
            <p:nvPr/>
          </p:nvSpPr>
          <p:spPr>
            <a:xfrm>
              <a:off x="172800" y="3048120"/>
              <a:ext cx="325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CH</a:t>
              </a:r>
              <a:r>
                <a:rPr b="0" lang="en-US" sz="24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CO</a:t>
              </a:r>
              <a:r>
                <a:rPr b="0" lang="en-US" sz="24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 + H</a:t>
              </a:r>
              <a:r>
                <a:rPr b="0" lang="en-US" sz="24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7"/>
            <p:cNvSpPr/>
            <p:nvPr/>
          </p:nvSpPr>
          <p:spPr>
            <a:xfrm>
              <a:off x="5387040" y="3048120"/>
              <a:ext cx="3440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400" spc="-1" strike="noStrike" baseline="30000">
                  <a:solidFill>
                    <a:srgbClr val="c82e32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 + CH</a:t>
              </a:r>
              <a:r>
                <a:rPr b="0" lang="en-US" sz="24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CO</a:t>
              </a:r>
              <a:r>
                <a:rPr b="0" lang="en-US" sz="24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9" descr="equilibrium"/>
            <p:cNvPicPr/>
            <p:nvPr/>
          </p:nvPicPr>
          <p:blipFill>
            <a:blip r:embed="rId1"/>
            <a:stretch/>
          </p:blipFill>
          <p:spPr>
            <a:xfrm>
              <a:off x="3602160" y="3156120"/>
              <a:ext cx="158724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17320" y="448920"/>
            <a:ext cx="7956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o review….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trong acid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-325800">
              <a:lnSpc>
                <a:spcPct val="115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s larg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[H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 = [HA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is a weaker base than water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eak acid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s smal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[H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&lt;&lt;&lt; [HA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is a stronger base than water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7320" y="448920"/>
            <a:ext cx="7956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ypes of Aci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olyprotic Acids- more than 1 acidic hydrogen (diprotic, triprotic)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xyacids - Proton is attached to the oxygen of an 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rganic acids contain the Carboxyl group -COOH with the H attached to O, generally very weak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utoionization of Wa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s we have seen, water is amphoteric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n pure water, a few molecules act as bases and a few act as acid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is referred to as </a:t>
            </a:r>
            <a:r>
              <a:rPr b="0" lang="en-US" sz="3200" spc="-1" strike="noStrike">
                <a:solidFill>
                  <a:srgbClr val="00006c"/>
                </a:solidFill>
                <a:latin typeface="Arial"/>
              </a:rPr>
              <a:t>autoionizatio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97" name="Group 11"/>
          <p:cNvGrpSpPr/>
          <p:nvPr/>
        </p:nvGrpSpPr>
        <p:grpSpPr>
          <a:xfrm>
            <a:off x="706680" y="3276720"/>
            <a:ext cx="7616160" cy="579600"/>
            <a:chOff x="706680" y="3276720"/>
            <a:chExt cx="7616160" cy="579600"/>
          </a:xfrm>
        </p:grpSpPr>
        <p:sp>
          <p:nvSpPr>
            <p:cNvPr id="98" name="Rectangle 4"/>
            <p:cNvSpPr/>
            <p:nvPr/>
          </p:nvSpPr>
          <p:spPr>
            <a:xfrm>
              <a:off x="706680" y="3276720"/>
              <a:ext cx="2530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6"/>
            <p:cNvSpPr/>
            <p:nvPr/>
          </p:nvSpPr>
          <p:spPr>
            <a:xfrm>
              <a:off x="5263560" y="3276720"/>
              <a:ext cx="3059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+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OH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-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9" descr="equilibrium"/>
            <p:cNvPicPr/>
            <p:nvPr/>
          </p:nvPicPr>
          <p:blipFill>
            <a:blip r:embed="rId1"/>
            <a:stretch/>
          </p:blipFill>
          <p:spPr>
            <a:xfrm>
              <a:off x="3534480" y="3416400"/>
              <a:ext cx="160416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Ion-Product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expression for this process i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[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[O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2640" indent="0" algn="ctr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special equilibrium constant is referred to as the </a:t>
            </a:r>
            <a:r>
              <a:rPr b="0" lang="en-US" sz="3200" spc="-1" strike="noStrike">
                <a:solidFill>
                  <a:srgbClr val="00006c"/>
                </a:solidFill>
                <a:latin typeface="Arial"/>
              </a:rPr>
              <a:t>ion-product constant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for water,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t 25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,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1.0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14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rrhenius Defini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cids produce hydrogen ions in aqueous solu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ases produce hydroxide ions when dissolved in wa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efinition is limited to aqueous soluti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ly one kind of base for this defini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ammonia could not be an Arrhenius bas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queous solu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aqueous solution three possibilities exist…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Neutral solution [H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] = [OH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]= 1.0 x10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-7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cidic solution [H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] &gt; [OH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Basic solution [H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] &lt; [OH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H is defined as the negative base-10 logarithm of the concentration of hydronium 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H = -log [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Used because [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is usually very small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pH decreases, [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increases exponentially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= 1.0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8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pH= 8.00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OH= -log[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Ka = -log K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n pure water,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[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[O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= 1.0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14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nce in pure water [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= [O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,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[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=   1.0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14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1.0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7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11" name="Group 8"/>
          <p:cNvGrpSpPr/>
          <p:nvPr/>
        </p:nvGrpSpPr>
        <p:grpSpPr>
          <a:xfrm>
            <a:off x="3276720" y="5029200"/>
            <a:ext cx="2070000" cy="609480"/>
            <a:chOff x="3276720" y="5029200"/>
            <a:chExt cx="2070000" cy="609480"/>
          </a:xfrm>
        </p:grpSpPr>
        <p:pic>
          <p:nvPicPr>
            <p:cNvPr id="112" name="Picture 6" descr="radical"/>
            <p:cNvPicPr/>
            <p:nvPr/>
          </p:nvPicPr>
          <p:blipFill>
            <a:blip r:embed="rId1"/>
            <a:srcRect l="22812" t="38821" r="63613" b="33998"/>
            <a:stretch/>
          </p:blipFill>
          <p:spPr>
            <a:xfrm>
              <a:off x="3276720" y="5029200"/>
              <a:ext cx="3045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Line 7"/>
            <p:cNvSpPr/>
            <p:nvPr/>
          </p:nvSpPr>
          <p:spPr>
            <a:xfrm>
              <a:off x="3517920" y="5029200"/>
              <a:ext cx="1828800" cy="0"/>
            </a:xfrm>
            <a:prstGeom prst="line">
              <a:avLst/>
            </a:prstGeom>
            <a:ln w="255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in pure water,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H = -log (1.0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7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 = 7.00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n acid has a higher [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than pure water, so its pH is &lt;7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 base has a lower [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than pure water, so its pH is &gt;7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6" name="Picture 10" descr="16_T01"/>
          <p:cNvPicPr/>
          <p:nvPr/>
        </p:nvPicPr>
        <p:blipFill>
          <a:blip r:embed="rId1"/>
          <a:srcRect l="0" t="19232" r="0" b="11542"/>
          <a:stretch/>
        </p:blipFill>
        <p:spPr>
          <a:xfrm>
            <a:off x="777960" y="4495680"/>
            <a:ext cx="758664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lationship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[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[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;  pH= -log[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=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pH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-log 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-log[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+ -log[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pH + pOH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1.0 x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14.00 = pH + pOH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,[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,pH and pOH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Given any one of these we can find the other thre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se are the pH values for several common substanc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1" name="Picture 8" descr="16_05"/>
          <p:cNvPicPr/>
          <p:nvPr/>
        </p:nvPicPr>
        <p:blipFill>
          <a:blip r:embed="rId1"/>
          <a:srcRect l="0" t="0" r="0" b="3672"/>
          <a:stretch/>
        </p:blipFill>
        <p:spPr>
          <a:xfrm>
            <a:off x="3908520" y="1371600"/>
            <a:ext cx="454968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How Do We Measure pH?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95680" y="1599840"/>
            <a:ext cx="4267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less accurate measurements, we can use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Litmus paper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Red” paper turns blue above ~pH = 8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Blue” paper turns red below ~pH = 5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Blue to red = “ahsaid”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r an indicator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4" name="Picture 5" descr="16_07"/>
          <p:cNvPicPr/>
          <p:nvPr/>
        </p:nvPicPr>
        <p:blipFill>
          <a:blip r:embed="rId1"/>
          <a:srcRect l="1565" t="3474" r="1565" b="5871"/>
          <a:stretch/>
        </p:blipFill>
        <p:spPr>
          <a:xfrm>
            <a:off x="152280" y="2019240"/>
            <a:ext cx="472464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How Do We Measure pH?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more accurate measurements, one uses a pH meter, which measures the voltage in the solu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7" name="Picture 5" descr="16_06"/>
          <p:cNvPicPr/>
          <p:nvPr/>
        </p:nvPicPr>
        <p:blipFill>
          <a:blip r:embed="rId1"/>
          <a:srcRect l="0" t="0" r="0" b="3701"/>
          <a:stretch/>
        </p:blipFill>
        <p:spPr>
          <a:xfrm>
            <a:off x="4933800" y="1981080"/>
            <a:ext cx="323712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pH of Solu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lways write down the major ions in solu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emember these are equilibrium problem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emember the chemistr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on’t try to memorize, there is no one way to do thi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ronsted-Lowry Defini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n acid is a proton (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 donor and a base is a proton accepto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cids and bases always come in pai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Cl is an aci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n it dissolves in water it gives its proton to wa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Cl +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(l) </a:t>
            </a:r>
            <a:r>
              <a:rPr b="0" lang="en-US" sz="2800" spc="-1" strike="noStrike">
                <a:solidFill>
                  <a:srgbClr val="c82e32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Cl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ater is a base making the hydronium ion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call Strong Aci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Br, HI, HCl, HNO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H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HClO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ompletely dissociat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[H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= [HA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[OH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is going to be small because of equilibrium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10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-14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[H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[OH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call Weak Aci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Ka will be smal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t will be an equilibrium problem from the start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Dissociation Consta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r a generalized acid dissociation,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expression would b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equilibrium constant is called the acid-dissociation constant,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36" name="Group 12"/>
          <p:cNvGrpSpPr/>
          <p:nvPr/>
        </p:nvGrpSpPr>
        <p:grpSpPr>
          <a:xfrm>
            <a:off x="3220200" y="3886200"/>
            <a:ext cx="2685600" cy="1006200"/>
            <a:chOff x="3220200" y="3886200"/>
            <a:chExt cx="2685600" cy="1006200"/>
          </a:xfrm>
        </p:grpSpPr>
        <p:grpSp>
          <p:nvGrpSpPr>
            <p:cNvPr id="137" name="Group 10"/>
            <p:cNvGrpSpPr/>
            <p:nvPr/>
          </p:nvGrpSpPr>
          <p:grpSpPr>
            <a:xfrm>
              <a:off x="4125960" y="3886200"/>
              <a:ext cx="1779840" cy="1006200"/>
              <a:chOff x="4125960" y="3886200"/>
              <a:chExt cx="1779840" cy="1006200"/>
            </a:xfrm>
          </p:grpSpPr>
          <p:sp>
            <p:nvSpPr>
              <p:cNvPr id="138" name="Rectangle 8"/>
              <p:cNvSpPr/>
              <p:nvPr/>
            </p:nvSpPr>
            <p:spPr>
              <a:xfrm>
                <a:off x="4158360" y="3886200"/>
                <a:ext cx="174744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H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3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2800" spc="-1" strike="noStrike" baseline="30000">
                    <a:solidFill>
                      <a:srgbClr val="c82e32"/>
                    </a:solidFill>
                    <a:latin typeface="Arial"/>
                  </a:rPr>
                  <a:t>+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] [A</a:t>
                </a:r>
                <a:r>
                  <a:rPr b="0" lang="en-US" sz="2800" spc="-1" strike="noStrike" baseline="30000">
                    <a:solidFill>
                      <a:srgbClr val="c82e32"/>
                    </a:solidFill>
                    <a:latin typeface="Arial"/>
                  </a:rPr>
                  <a:t>-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HA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9"/>
              <p:cNvSpPr/>
              <p:nvPr/>
            </p:nvSpPr>
            <p:spPr>
              <a:xfrm>
                <a:off x="4125960" y="4392720"/>
                <a:ext cx="175248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Rectangle 11"/>
            <p:cNvSpPr/>
            <p:nvPr/>
          </p:nvSpPr>
          <p:spPr>
            <a:xfrm>
              <a:off x="3220200" y="4100400"/>
              <a:ext cx="82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c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5"/>
          <p:cNvGrpSpPr/>
          <p:nvPr/>
        </p:nvGrpSpPr>
        <p:grpSpPr>
          <a:xfrm>
            <a:off x="837720" y="2590920"/>
            <a:ext cx="7270200" cy="579600"/>
            <a:chOff x="837720" y="2590920"/>
            <a:chExt cx="7270200" cy="579600"/>
          </a:xfrm>
        </p:grpSpPr>
        <p:sp>
          <p:nvSpPr>
            <p:cNvPr id="142" name="Rectangle 4"/>
            <p:cNvSpPr/>
            <p:nvPr/>
          </p:nvSpPr>
          <p:spPr>
            <a:xfrm>
              <a:off x="837720" y="2590920"/>
              <a:ext cx="260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HA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6"/>
            <p:cNvSpPr/>
            <p:nvPr/>
          </p:nvSpPr>
          <p:spPr>
            <a:xfrm>
              <a:off x="5344560" y="2590920"/>
              <a:ext cx="2763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A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-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+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13" descr="equilibrium"/>
            <p:cNvPicPr/>
            <p:nvPr/>
          </p:nvPicPr>
          <p:blipFill>
            <a:blip r:embed="rId1"/>
            <a:stretch/>
          </p:blipFill>
          <p:spPr>
            <a:xfrm>
              <a:off x="3659040" y="2730600"/>
              <a:ext cx="158760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Dissociation Consta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greater 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the stronger is the aci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47" name="Picture 8" descr="16_T02"/>
          <p:cNvPicPr/>
          <p:nvPr/>
        </p:nvPicPr>
        <p:blipFill>
          <a:blip r:embed="rId1"/>
          <a:srcRect l="0" t="5616" r="0" b="6399"/>
          <a:stretch/>
        </p:blipFill>
        <p:spPr>
          <a:xfrm>
            <a:off x="762120" y="2057400"/>
            <a:ext cx="761976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pH from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alculate the pH of a 0.30 M solution of acetic acid, HC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at 25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                 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for acetic acid at 25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 is 1.8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5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50" name="Picture 5" descr="equilibrium"/>
          <p:cNvPicPr/>
          <p:nvPr/>
        </p:nvPicPr>
        <p:blipFill>
          <a:blip r:embed="rId1"/>
          <a:stretch/>
        </p:blipFill>
        <p:spPr>
          <a:xfrm>
            <a:off x="3784680" y="3733920"/>
            <a:ext cx="1587600" cy="24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pH from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constant expression i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53" name="Group 11"/>
          <p:cNvGrpSpPr/>
          <p:nvPr/>
        </p:nvGrpSpPr>
        <p:grpSpPr>
          <a:xfrm>
            <a:off x="2601000" y="3505320"/>
            <a:ext cx="3978720" cy="1203480"/>
            <a:chOff x="2601000" y="3505320"/>
            <a:chExt cx="3978720" cy="1203480"/>
          </a:xfrm>
        </p:grpSpPr>
        <p:grpSp>
          <p:nvGrpSpPr>
            <p:cNvPr id="154" name="Group 9"/>
            <p:cNvGrpSpPr/>
            <p:nvPr/>
          </p:nvGrpSpPr>
          <p:grpSpPr>
            <a:xfrm>
              <a:off x="3579480" y="3505320"/>
              <a:ext cx="3000240" cy="1203480"/>
              <a:chOff x="3579480" y="3505320"/>
              <a:chExt cx="3000240" cy="1203480"/>
            </a:xfrm>
          </p:grpSpPr>
          <p:sp>
            <p:nvSpPr>
              <p:cNvPr id="155" name="Rectangle 6"/>
              <p:cNvSpPr/>
              <p:nvPr/>
            </p:nvSpPr>
            <p:spPr>
              <a:xfrm>
                <a:off x="3579480" y="3505320"/>
                <a:ext cx="3000240" cy="12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[H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3</a:t>
                </a: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3200" spc="-1" strike="noStrike" baseline="30000">
                    <a:solidFill>
                      <a:srgbClr val="c82e32"/>
                    </a:solidFill>
                    <a:latin typeface="Arial"/>
                  </a:rPr>
                  <a:t>+</a:t>
                </a: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] [C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H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3</a:t>
                </a: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3200" spc="-1" strike="noStrike" baseline="30000">
                    <a:solidFill>
                      <a:srgbClr val="c82e32"/>
                    </a:solidFill>
                    <a:latin typeface="Arial"/>
                  </a:rPr>
                  <a:t>-</a:t>
                </a: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[HC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H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3</a:t>
                </a: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7"/>
              <p:cNvSpPr/>
              <p:nvPr/>
            </p:nvSpPr>
            <p:spPr>
              <a:xfrm>
                <a:off x="3752640" y="4060800"/>
                <a:ext cx="274284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Rectangle 8"/>
            <p:cNvSpPr/>
            <p:nvPr/>
          </p:nvSpPr>
          <p:spPr>
            <a:xfrm>
              <a:off x="2601000" y="3719520"/>
              <a:ext cx="933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pH from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37000" y="1752480"/>
            <a:ext cx="40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next set up a tab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920" y="2590920"/>
          <a:ext cx="8610480" cy="1768320"/>
        </p:xfrm>
        <a:graphic>
          <a:graphicData uri="http://schemas.openxmlformats.org/drawingml/2006/table">
            <a:tbl>
              <a:tblPr/>
              <a:tblGrid>
                <a:gridCol w="2209680"/>
                <a:gridCol w="2286000"/>
                <a:gridCol w="1828800"/>
                <a:gridCol w="22860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C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C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-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+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+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30 - x 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47"/>
          <p:cNvSpPr/>
          <p:nvPr/>
        </p:nvSpPr>
        <p:spPr>
          <a:xfrm>
            <a:off x="304920" y="48769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We are assuming that x will be very small compared to 0.30 and can, therefore, be ign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2"/>
          <p:cNvSpPr/>
          <p:nvPr/>
        </p:nvSpPr>
        <p:spPr>
          <a:xfrm>
            <a:off x="3276720" y="358128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3"/>
          <p:cNvSpPr/>
          <p:nvPr/>
        </p:nvSpPr>
        <p:spPr>
          <a:xfrm>
            <a:off x="5334120" y="358128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4"/>
          <p:cNvSpPr/>
          <p:nvPr/>
        </p:nvSpPr>
        <p:spPr>
          <a:xfrm>
            <a:off x="7391520" y="358128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5"/>
          <p:cNvSpPr/>
          <p:nvPr/>
        </p:nvSpPr>
        <p:spPr>
          <a:xfrm>
            <a:off x="5562720" y="4038480"/>
            <a:ext cx="3045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6"/>
          <p:cNvSpPr/>
          <p:nvPr/>
        </p:nvSpPr>
        <p:spPr>
          <a:xfrm>
            <a:off x="7620120" y="4038480"/>
            <a:ext cx="3045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57"/>
          <p:cNvSpPr/>
          <p:nvPr/>
        </p:nvSpPr>
        <p:spPr>
          <a:xfrm>
            <a:off x="2743200" y="4038480"/>
            <a:ext cx="1828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pH from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ow,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70" name="Group 10"/>
          <p:cNvGrpSpPr/>
          <p:nvPr/>
        </p:nvGrpSpPr>
        <p:grpSpPr>
          <a:xfrm>
            <a:off x="2709720" y="2666880"/>
            <a:ext cx="3614760" cy="1068840"/>
            <a:chOff x="2709720" y="2666880"/>
            <a:chExt cx="3614760" cy="1068840"/>
          </a:xfrm>
        </p:grpSpPr>
        <p:grpSp>
          <p:nvGrpSpPr>
            <p:cNvPr id="171" name="Group 7"/>
            <p:cNvGrpSpPr/>
            <p:nvPr/>
          </p:nvGrpSpPr>
          <p:grpSpPr>
            <a:xfrm>
              <a:off x="5029200" y="2666880"/>
              <a:ext cx="1295280" cy="1068840"/>
              <a:chOff x="5029200" y="2666880"/>
              <a:chExt cx="1295280" cy="1068840"/>
            </a:xfrm>
          </p:grpSpPr>
          <p:sp>
            <p:nvSpPr>
              <p:cNvPr id="172" name="Rectangle 5"/>
              <p:cNvSpPr/>
              <p:nvPr/>
            </p:nvSpPr>
            <p:spPr>
              <a:xfrm>
                <a:off x="5058720" y="2666880"/>
                <a:ext cx="12412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(x)</a:t>
                </a:r>
                <a:r>
                  <a:rPr b="0" lang="en-US" sz="3200" spc="-1" strike="noStrike" baseline="30000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(0.30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6"/>
              <p:cNvSpPr/>
              <p:nvPr/>
            </p:nvSpPr>
            <p:spPr>
              <a:xfrm>
                <a:off x="5029200" y="3246120"/>
                <a:ext cx="129528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Rectangle 9"/>
            <p:cNvSpPr/>
            <p:nvPr/>
          </p:nvSpPr>
          <p:spPr>
            <a:xfrm>
              <a:off x="2709720" y="2911320"/>
              <a:ext cx="23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1.8 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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10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-5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11"/>
          <p:cNvSpPr/>
          <p:nvPr/>
        </p:nvSpPr>
        <p:spPr>
          <a:xfrm>
            <a:off x="347760" y="3886200"/>
            <a:ext cx="673884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1.8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5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) (0.30) = x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5.4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6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x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2.3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x 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pH from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00040" y="1981080"/>
            <a:ext cx="5257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H = -log [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-log (2.3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2.64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lculate the pH of 2.0 M acetic acid HC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with a Ka 1.8 x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5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lculate pOH, [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, [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60" y="13716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 Brønsted-Lowry acid…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must have a removable (acidic) prot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 Brønsted-Lowry base…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must have a pair of nonbonding electron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 mixture of Weak Aci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process is the same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Determine the major speci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stronger will predominate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Bigger Ka if concentrations are similar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lculate the pH of a mixture 1.0 M HF (Ka = 7.2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 and 1.0 M HOC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(Ka =1.6x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10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from the p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pH of a 0.10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solution of formic acid, HCOOH, at 25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 is 2.38.  Calculat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formic acid at this temperatur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know that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86" name="Group 10"/>
          <p:cNvGrpSpPr/>
          <p:nvPr/>
        </p:nvGrpSpPr>
        <p:grpSpPr>
          <a:xfrm>
            <a:off x="2983680" y="4495680"/>
            <a:ext cx="3312000" cy="1006200"/>
            <a:chOff x="2983680" y="4495680"/>
            <a:chExt cx="3312000" cy="1006200"/>
          </a:xfrm>
        </p:grpSpPr>
        <p:grpSp>
          <p:nvGrpSpPr>
            <p:cNvPr id="187" name="Group 9"/>
            <p:cNvGrpSpPr/>
            <p:nvPr/>
          </p:nvGrpSpPr>
          <p:grpSpPr>
            <a:xfrm>
              <a:off x="3976920" y="4495680"/>
              <a:ext cx="2318760" cy="1006200"/>
              <a:chOff x="3976920" y="4495680"/>
              <a:chExt cx="2318760" cy="1006200"/>
            </a:xfrm>
          </p:grpSpPr>
          <p:sp>
            <p:nvSpPr>
              <p:cNvPr id="188" name="Rectangle 6"/>
              <p:cNvSpPr/>
              <p:nvPr/>
            </p:nvSpPr>
            <p:spPr>
              <a:xfrm>
                <a:off x="3976920" y="4495680"/>
                <a:ext cx="231876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H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3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2800" spc="-1" strike="noStrike" baseline="30000">
                    <a:solidFill>
                      <a:srgbClr val="c82e32"/>
                    </a:solidFill>
                    <a:latin typeface="Arial"/>
                  </a:rPr>
                  <a:t>+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] [COO</a:t>
                </a:r>
                <a:r>
                  <a:rPr b="0" lang="en-US" sz="2800" spc="-1" strike="noStrike" baseline="30000">
                    <a:solidFill>
                      <a:srgbClr val="c82e32"/>
                    </a:solidFill>
                    <a:latin typeface="Arial"/>
                  </a:rPr>
                  <a:t>-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HCOOH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7"/>
              <p:cNvSpPr/>
              <p:nvPr/>
            </p:nvSpPr>
            <p:spPr>
              <a:xfrm>
                <a:off x="4076640" y="5002200"/>
                <a:ext cx="220932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Rectangle 8"/>
            <p:cNvSpPr/>
            <p:nvPr/>
          </p:nvSpPr>
          <p:spPr>
            <a:xfrm>
              <a:off x="2983680" y="4710240"/>
              <a:ext cx="837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from the p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pH of a 0.10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solution of formic acid, HCOOH, at 25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 is 2.38.  Calculat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formic acid at this temperatur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o calculat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we need the equilibrium concentrations of all three thing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can find [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, which is the same as [HCO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, from the pH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from the p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H = -log [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2.38 = -log [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-2.38 = log [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2.38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log [H</a:t>
            </a:r>
            <a:r>
              <a:rPr b="0" lang="en-US" sz="2400" spc="-1" strike="noStrike" baseline="20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4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[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4.2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[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= [HCO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from p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913680" y="1828800"/>
            <a:ext cx="47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ow we can set up a tab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9480" y="2743200"/>
          <a:ext cx="7925040" cy="2133720"/>
        </p:xfrm>
        <a:graphic>
          <a:graphicData uri="http://schemas.openxmlformats.org/drawingml/2006/table">
            <a:tbl>
              <a:tblPr/>
              <a:tblGrid>
                <a:gridCol w="1828800"/>
                <a:gridCol w="2590920"/>
                <a:gridCol w="1676520"/>
                <a:gridCol w="182880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HCOOH]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HCOO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- 4.2 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10</a:t>
                      </a:r>
                      <a:r>
                        <a:rPr b="0" lang="en-US" sz="20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+ 4.2 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10</a:t>
                      </a:r>
                      <a:r>
                        <a:rPr b="0" lang="en-US" sz="20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+ 4.2 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10</a:t>
                      </a:r>
                      <a:r>
                        <a:rPr b="0" lang="en-US" sz="20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10 - 4.2 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10</a:t>
                      </a:r>
                      <a:r>
                        <a:rPr b="0" lang="en-US" sz="20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= 0.0958 = 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4.2 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10</a:t>
                      </a:r>
                      <a:r>
                        <a:rPr b="0" lang="en-US" sz="20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4.2 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10</a:t>
                      </a:r>
                      <a:r>
                        <a:rPr b="0" lang="en-US" sz="20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Rectangle 117"/>
          <p:cNvSpPr/>
          <p:nvPr/>
        </p:nvSpPr>
        <p:spPr>
          <a:xfrm>
            <a:off x="5181480" y="3718080"/>
            <a:ext cx="137160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8"/>
          <p:cNvSpPr/>
          <p:nvPr/>
        </p:nvSpPr>
        <p:spPr>
          <a:xfrm>
            <a:off x="6934320" y="3718080"/>
            <a:ext cx="137160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9"/>
          <p:cNvSpPr/>
          <p:nvPr/>
        </p:nvSpPr>
        <p:spPr>
          <a:xfrm>
            <a:off x="3048120" y="3718080"/>
            <a:ext cx="137160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0"/>
          <p:cNvSpPr/>
          <p:nvPr/>
        </p:nvSpPr>
        <p:spPr>
          <a:xfrm>
            <a:off x="5257800" y="4191120"/>
            <a:ext cx="1219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1"/>
          <p:cNvSpPr/>
          <p:nvPr/>
        </p:nvSpPr>
        <p:spPr>
          <a:xfrm>
            <a:off x="7010280" y="4191120"/>
            <a:ext cx="1219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2"/>
          <p:cNvSpPr/>
          <p:nvPr/>
        </p:nvSpPr>
        <p:spPr>
          <a:xfrm>
            <a:off x="2590920" y="4191120"/>
            <a:ext cx="21333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from p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05" name="Group 14"/>
          <p:cNvGrpSpPr/>
          <p:nvPr/>
        </p:nvGrpSpPr>
        <p:grpSpPr>
          <a:xfrm>
            <a:off x="2239200" y="2209680"/>
            <a:ext cx="4734000" cy="947160"/>
            <a:chOff x="2239200" y="2209680"/>
            <a:chExt cx="4734000" cy="947160"/>
          </a:xfrm>
        </p:grpSpPr>
        <p:sp>
          <p:nvSpPr>
            <p:cNvPr id="206" name="Rectangle 11"/>
            <p:cNvSpPr/>
            <p:nvPr/>
          </p:nvSpPr>
          <p:spPr>
            <a:xfrm>
              <a:off x="3188160" y="2209680"/>
              <a:ext cx="3785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[4.2 </a:t>
              </a:r>
              <a:r>
                <a:rPr b="0" lang="en-US" sz="28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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10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-3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] [4.2 </a:t>
              </a:r>
              <a:r>
                <a:rPr b="0" lang="en-US" sz="28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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10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-3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[0.10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>
              <a:off x="3369960" y="2691000"/>
              <a:ext cx="3504960" cy="0"/>
            </a:xfrm>
            <a:prstGeom prst="line">
              <a:avLst/>
            </a:prstGeom>
            <a:ln w="1908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2239200" y="2398680"/>
              <a:ext cx="837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5"/>
          <p:cNvSpPr/>
          <p:nvPr/>
        </p:nvSpPr>
        <p:spPr>
          <a:xfrm>
            <a:off x="2698560" y="3429000"/>
            <a:ext cx="20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= 1.8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ercent dissocia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c82e32"/>
                </a:solidFill>
                <a:uFillTx/>
                <a:latin typeface="Arial"/>
              </a:rPr>
              <a:t>    amount dissociated   </a:t>
            </a:r>
            <a:r>
              <a:rPr b="0" lang="en-US" sz="2800" spc="-1" strike="noStrike" u="sng">
                <a:solidFill>
                  <a:srgbClr val="c82e32"/>
                </a:solidFill>
                <a:uFillTx/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x 100 </a:t>
            </a:r>
            <a:br>
              <a:rPr sz="2800"/>
            </a:b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nitial concentration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a weak acid percent dissociation increases as acid becomes more dilut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[HA]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decreases [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decreases but % dissociation increa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Le Chatelier’s principle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Percent Ioniza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ercent Ionization =                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0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n this exampl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[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eq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4.2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[HCOOH]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initia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0.10 M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14" name="Group 6"/>
          <p:cNvGrpSpPr/>
          <p:nvPr/>
        </p:nvGrpSpPr>
        <p:grpSpPr>
          <a:xfrm>
            <a:off x="4800600" y="1676520"/>
            <a:ext cx="1676520" cy="1203480"/>
            <a:chOff x="4800600" y="1676520"/>
            <a:chExt cx="1676520" cy="1203480"/>
          </a:xfrm>
        </p:grpSpPr>
        <p:sp>
          <p:nvSpPr>
            <p:cNvPr id="215" name="Rectangle 4"/>
            <p:cNvSpPr/>
            <p:nvPr/>
          </p:nvSpPr>
          <p:spPr>
            <a:xfrm>
              <a:off x="4916520" y="1676520"/>
              <a:ext cx="154764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[H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+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]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e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[HA]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5"/>
            <p:cNvSpPr/>
            <p:nvPr/>
          </p:nvSpPr>
          <p:spPr>
            <a:xfrm>
              <a:off x="4800600" y="2260440"/>
              <a:ext cx="1676520" cy="0"/>
            </a:xfrm>
            <a:prstGeom prst="line">
              <a:avLst/>
            </a:prstGeom>
            <a:ln w="1908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7"/>
          <p:cNvSpPr/>
          <p:nvPr/>
        </p:nvSpPr>
        <p:spPr>
          <a:xfrm>
            <a:off x="380880" y="48769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ercent Ionization =                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8"/>
          <p:cNvGrpSpPr/>
          <p:nvPr/>
        </p:nvGrpSpPr>
        <p:grpSpPr>
          <a:xfrm>
            <a:off x="4409280" y="4600440"/>
            <a:ext cx="1953000" cy="1068840"/>
            <a:chOff x="4409280" y="4600440"/>
            <a:chExt cx="1953000" cy="1068840"/>
          </a:xfrm>
        </p:grpSpPr>
        <p:sp>
          <p:nvSpPr>
            <p:cNvPr id="219" name="Rectangle 9"/>
            <p:cNvSpPr/>
            <p:nvPr/>
          </p:nvSpPr>
          <p:spPr>
            <a:xfrm>
              <a:off x="4409280" y="4600440"/>
              <a:ext cx="1953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4.2 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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10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0.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0"/>
            <p:cNvSpPr/>
            <p:nvPr/>
          </p:nvSpPr>
          <p:spPr>
            <a:xfrm>
              <a:off x="4495680" y="5155920"/>
              <a:ext cx="1676520" cy="0"/>
            </a:xfrm>
            <a:prstGeom prst="line">
              <a:avLst/>
            </a:prstGeom>
            <a:ln w="1908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11"/>
          <p:cNvSpPr/>
          <p:nvPr/>
        </p:nvSpPr>
        <p:spPr>
          <a:xfrm>
            <a:off x="4116960" y="5622840"/>
            <a:ext cx="145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4.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lculate the % dissociation of  1.00 M and 1.0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3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M Acetic acid (Ka = 1.8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5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ypes of Acid-Base reac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ecall…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trong acid – strong bas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(aq) + O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(aq) </a:t>
            </a:r>
            <a:r>
              <a:rPr b="0" lang="en-US" sz="3200" spc="-1" strike="noStrike">
                <a:solidFill>
                  <a:srgbClr val="c82e32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eak acid – strong bas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1) HA </a:t>
            </a:r>
            <a:r>
              <a:rPr b="0" lang="en-US" sz="3200" spc="-1" strike="noStrike">
                <a:solidFill>
                  <a:srgbClr val="c82e32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+ A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 (weak acid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2) 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+ O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o, HA + O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trong Ba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trong bases are the soluble hydroxides, which are the alkali metal and heavier alkaline earth metal hydroxides (Ca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Sr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and Ba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gain, these substances dissociate completely in aqueous solu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a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s a strong base.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ydroxides of the alkali metals are strong bases because they dissociate completely when dissolv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hydroxides of alkaline earths Ca(OH)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etc. are strong dibasic bases,  but they don’t dissolve well in wa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Used as antacids because [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can’t build up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ases without OH</a:t>
            </a:r>
            <a:r>
              <a:rPr b="0" lang="en-US" sz="54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5400" spc="-1" strike="noStrike" baseline="-25000">
                <a:solidFill>
                  <a:srgbClr val="c82e32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ases are proton accepto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c82e32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the lone pair on nitrogen that accepts the prot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any weak bases  contain  nitrogen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(aq) +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(l) </a:t>
            </a:r>
            <a:r>
              <a:rPr b="0" lang="en-US" sz="2800" spc="-1" strike="noStrike">
                <a:solidFill>
                  <a:srgbClr val="c82e32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B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(aq) + 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(aq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98440" indent="-298440">
              <a:lnSpc>
                <a:spcPct val="11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[B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[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B]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1752480" y="57150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eak Ba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ases react with water to produce hydroxide 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3" name="Picture 5" descr="16_03-02UN"/>
          <p:cNvPicPr/>
          <p:nvPr/>
        </p:nvPicPr>
        <p:blipFill>
          <a:blip r:embed="rId1"/>
          <a:srcRect l="0" t="0" r="0" b="5024"/>
          <a:stretch/>
        </p:blipFill>
        <p:spPr>
          <a:xfrm>
            <a:off x="1447920" y="2895480"/>
            <a:ext cx="6248160" cy="288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trength of Ba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410080" y="502920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ydroxides are strong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thers are weak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maller the 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the weaker the bas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eak Ba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constant expression for this reaction i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39" name="Group 11"/>
          <p:cNvGrpSpPr/>
          <p:nvPr/>
        </p:nvGrpSpPr>
        <p:grpSpPr>
          <a:xfrm>
            <a:off x="3248640" y="3379680"/>
            <a:ext cx="2999880" cy="1068840"/>
            <a:chOff x="3248640" y="3379680"/>
            <a:chExt cx="2999880" cy="1068840"/>
          </a:xfrm>
        </p:grpSpPr>
        <p:sp>
          <p:nvSpPr>
            <p:cNvPr id="240" name="Rectangle 6"/>
            <p:cNvSpPr/>
            <p:nvPr/>
          </p:nvSpPr>
          <p:spPr>
            <a:xfrm>
              <a:off x="4167000" y="3379680"/>
              <a:ext cx="199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[HB] [OH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-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[B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-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>
              <a:off x="4203720" y="3938760"/>
              <a:ext cx="2044800" cy="0"/>
            </a:xfrm>
            <a:prstGeom prst="line">
              <a:avLst/>
            </a:prstGeom>
            <a:ln w="1908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8"/>
            <p:cNvSpPr/>
            <p:nvPr/>
          </p:nvSpPr>
          <p:spPr>
            <a:xfrm>
              <a:off x="3248640" y="3622680"/>
              <a:ext cx="933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b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ectangle 10"/>
          <p:cNvSpPr/>
          <p:nvPr/>
        </p:nvSpPr>
        <p:spPr>
          <a:xfrm>
            <a:off x="240120" y="4876920"/>
            <a:ext cx="79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here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is the base-dissociation co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eak Ba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can be used to find [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and, subsequently, pH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6" name="Picture 8" descr="16_T04"/>
          <p:cNvPicPr/>
          <p:nvPr/>
        </p:nvPicPr>
        <p:blipFill>
          <a:blip r:embed="rId1"/>
          <a:srcRect l="0" t="5785" r="0" b="5490"/>
          <a:stretch/>
        </p:blipFill>
        <p:spPr>
          <a:xfrm>
            <a:off x="1044720" y="2209680"/>
            <a:ext cx="7053120" cy="3837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H of Basic Solu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hat is the pH of a 0.15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solution of N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49" name="Group 15"/>
          <p:cNvGrpSpPr/>
          <p:nvPr/>
        </p:nvGrpSpPr>
        <p:grpSpPr>
          <a:xfrm>
            <a:off x="1748520" y="3962520"/>
            <a:ext cx="5689080" cy="1203480"/>
            <a:chOff x="1748520" y="3962520"/>
            <a:chExt cx="5689080" cy="1203480"/>
          </a:xfrm>
        </p:grpSpPr>
        <p:grpSp>
          <p:nvGrpSpPr>
            <p:cNvPr id="250" name="Group 13"/>
            <p:cNvGrpSpPr/>
            <p:nvPr/>
          </p:nvGrpSpPr>
          <p:grpSpPr>
            <a:xfrm>
              <a:off x="1748520" y="3962520"/>
              <a:ext cx="3318120" cy="1203480"/>
              <a:chOff x="1748520" y="3962520"/>
              <a:chExt cx="3318120" cy="1203480"/>
            </a:xfrm>
          </p:grpSpPr>
          <p:sp>
            <p:nvSpPr>
              <p:cNvPr id="251" name="Rectangle 10"/>
              <p:cNvSpPr/>
              <p:nvPr/>
            </p:nvSpPr>
            <p:spPr>
              <a:xfrm>
                <a:off x="2777040" y="3962520"/>
                <a:ext cx="2289600" cy="12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[NH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lang="en-US" sz="3200" spc="-1" strike="noStrike" baseline="30000">
                    <a:solidFill>
                      <a:srgbClr val="c82e32"/>
                    </a:solidFill>
                    <a:latin typeface="Arial"/>
                  </a:rPr>
                  <a:t>+</a:t>
                </a: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] [OH</a:t>
                </a:r>
                <a:r>
                  <a:rPr b="0" lang="en-US" sz="3200" spc="-1" strike="noStrike" baseline="30000">
                    <a:solidFill>
                      <a:srgbClr val="c82e32"/>
                    </a:solidFill>
                    <a:latin typeface="Arial"/>
                  </a:rPr>
                  <a:t>-</a:t>
                </a: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[NH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3</a:t>
                </a: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11"/>
              <p:cNvSpPr/>
              <p:nvPr/>
            </p:nvSpPr>
            <p:spPr>
              <a:xfrm>
                <a:off x="2805120" y="4518000"/>
                <a:ext cx="220968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12"/>
              <p:cNvSpPr/>
              <p:nvPr/>
            </p:nvSpPr>
            <p:spPr>
              <a:xfrm>
                <a:off x="1748520" y="4176720"/>
                <a:ext cx="93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i="1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b</a:t>
                </a: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 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Rectangle 14"/>
            <p:cNvSpPr/>
            <p:nvPr/>
          </p:nvSpPr>
          <p:spPr>
            <a:xfrm>
              <a:off x="5134320" y="4206600"/>
              <a:ext cx="23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= 1.8 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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10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-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8"/>
          <p:cNvGrpSpPr/>
          <p:nvPr/>
        </p:nvGrpSpPr>
        <p:grpSpPr>
          <a:xfrm>
            <a:off x="414720" y="2908440"/>
            <a:ext cx="8269200" cy="581040"/>
            <a:chOff x="414720" y="2908440"/>
            <a:chExt cx="8269200" cy="581040"/>
          </a:xfrm>
        </p:grpSpPr>
        <p:sp>
          <p:nvSpPr>
            <p:cNvPr id="256" name="Rectangle 4"/>
            <p:cNvSpPr/>
            <p:nvPr/>
          </p:nvSpPr>
          <p:spPr>
            <a:xfrm>
              <a:off x="414720" y="2908440"/>
              <a:ext cx="273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N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5"/>
            <p:cNvSpPr/>
            <p:nvPr/>
          </p:nvSpPr>
          <p:spPr>
            <a:xfrm>
              <a:off x="5685480" y="2909880"/>
              <a:ext cx="2998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N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+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OH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-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Picture 16" descr="equilibrium"/>
            <p:cNvPicPr/>
            <p:nvPr/>
          </p:nvPicPr>
          <p:blipFill>
            <a:blip r:embed="rId1"/>
            <a:stretch/>
          </p:blipFill>
          <p:spPr>
            <a:xfrm>
              <a:off x="3699000" y="3048120"/>
              <a:ext cx="161208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H of Basic Solu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690480" y="1752480"/>
            <a:ext cx="34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abulate the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04920" y="2666880"/>
          <a:ext cx="8534160" cy="1524240"/>
        </p:xfrm>
        <a:graphic>
          <a:graphicData uri="http://schemas.openxmlformats.org/drawingml/2006/table">
            <a:tbl>
              <a:tblPr/>
              <a:tblGrid>
                <a:gridCol w="2666880"/>
                <a:gridCol w="2514600"/>
                <a:gridCol w="1752480"/>
                <a:gridCol w="16002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NH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NH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OH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15 - x </a:t>
                      </a: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0.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Rectangle 118"/>
          <p:cNvSpPr/>
          <p:nvPr/>
        </p:nvSpPr>
        <p:spPr>
          <a:xfrm>
            <a:off x="6172200" y="37339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9"/>
          <p:cNvSpPr/>
          <p:nvPr/>
        </p:nvSpPr>
        <p:spPr>
          <a:xfrm>
            <a:off x="7848720" y="37339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0"/>
          <p:cNvSpPr/>
          <p:nvPr/>
        </p:nvSpPr>
        <p:spPr>
          <a:xfrm>
            <a:off x="3200400" y="3733920"/>
            <a:ext cx="2057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H of Basic Solu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320" y="3047760"/>
            <a:ext cx="44197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1.8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5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) (0.15) = x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2.7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6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x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1.6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2735280" y="1905120"/>
            <a:ext cx="3614760" cy="1068840"/>
            <a:chOff x="2735280" y="1905120"/>
            <a:chExt cx="3614760" cy="1068840"/>
          </a:xfrm>
        </p:grpSpPr>
        <p:grpSp>
          <p:nvGrpSpPr>
            <p:cNvPr id="268" name="Group 5"/>
            <p:cNvGrpSpPr/>
            <p:nvPr/>
          </p:nvGrpSpPr>
          <p:grpSpPr>
            <a:xfrm>
              <a:off x="5054760" y="1905120"/>
              <a:ext cx="1295280" cy="1068840"/>
              <a:chOff x="5054760" y="1905120"/>
              <a:chExt cx="1295280" cy="1068840"/>
            </a:xfrm>
          </p:grpSpPr>
          <p:sp>
            <p:nvSpPr>
              <p:cNvPr id="269" name="Rectangle 6"/>
              <p:cNvSpPr/>
              <p:nvPr/>
            </p:nvSpPr>
            <p:spPr>
              <a:xfrm>
                <a:off x="5085720" y="1905120"/>
                <a:ext cx="12412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(x)</a:t>
                </a:r>
                <a:r>
                  <a:rPr b="0" lang="en-US" sz="3200" spc="-1" strike="noStrike" baseline="30000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(0.15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7"/>
              <p:cNvSpPr/>
              <p:nvPr/>
            </p:nvSpPr>
            <p:spPr>
              <a:xfrm>
                <a:off x="5054760" y="2484360"/>
                <a:ext cx="129528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Rectangle 8"/>
            <p:cNvSpPr/>
            <p:nvPr/>
          </p:nvSpPr>
          <p:spPr>
            <a:xfrm>
              <a:off x="2735280" y="2149560"/>
              <a:ext cx="23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1.8 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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10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-5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ypes of acid base reac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trong acid – weak bas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1) B + 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c82e32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B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+ O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(weak base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2) 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+ O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o,   B + 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B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ommon weak bases: ammonia (N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), methylamine (C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H of Basic Solu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63244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51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fore,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13651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[O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= 1.6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13651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OH = -log (1.6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13651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H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2.80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13651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H = 14.00 - 2.80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13651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11.20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lculate the pH of a solution of 0.20 M pyridine (Kb = 1.7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9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nd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 K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nd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 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related in this wa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if you know one of them, you can calculate the oth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78" name="Picture 8" descr="16_T05"/>
          <p:cNvPicPr/>
          <p:nvPr/>
        </p:nvPicPr>
        <p:blipFill>
          <a:blip r:embed="rId1"/>
          <a:srcRect l="0" t="11893" r="0" b="7806"/>
          <a:stretch/>
        </p:blipFill>
        <p:spPr>
          <a:xfrm>
            <a:off x="1106640" y="1447920"/>
            <a:ext cx="6929280" cy="234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tells us K</a:t>
            </a:r>
            <a:r>
              <a:rPr b="0" lang="en-US" sz="4400" spc="-1" strike="noStrike" baseline="-25000">
                <a:solidFill>
                  <a:srgbClr val="c82e32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anion of a weak acid is a semi-strong bas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lculate the pH of a solution of 0.050M NaCN. Ka of HCN is 6.2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10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CN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on competes with 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the 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olyprotic Acids…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99920" y="144756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ave more than one acidic proton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the difference between th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the first dissociation and subsequent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values is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 more, the pH generally depend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n the first dissocia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83" name="Picture 8" descr="16_T03"/>
          <p:cNvPicPr/>
          <p:nvPr/>
        </p:nvPicPr>
        <p:blipFill>
          <a:blip r:embed="rId1"/>
          <a:srcRect l="0" t="11102" r="0" b="8386"/>
          <a:stretch/>
        </p:blipFill>
        <p:spPr>
          <a:xfrm>
            <a:off x="1181160" y="4191120"/>
            <a:ext cx="678168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olyprotic aci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lways dissociate stepwis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first 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comes of much easier than the secon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a for the first step is much bigger than Ka for the secon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enoted Ka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Ka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Ka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olyprotic acid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HC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a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= 4.3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7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C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C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a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= 4.3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10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ase in first step is acid in secon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calculations we can normally ignore the second dissociation because it’s so small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f all the ions in a solution of 0.20 M Arsenic acid 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sO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Ka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= 5.0 x 10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Ka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= 8.0 x 10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Ka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= 6.0 x 10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-10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ulfuric acid is special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first step it is a strong aci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a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1.2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lculate the concentrations in a 1.0 M solution of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alts as acids an ba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alts are ionic compound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alts of the cation of strong bases and the anion of strong acids are neutral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example NaCl, K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 is no equilibrium for strong acids and ba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ignore the reverse reac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cid Base Pai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General equation 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A(aq) + H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(l) </a:t>
            </a:r>
            <a:r>
              <a:rPr b="0" lang="en-US" sz="3200" spc="-1" strike="noStrike">
                <a:solidFill>
                  <a:srgbClr val="c82e32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aq) + A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cid + Base </a:t>
            </a:r>
            <a:r>
              <a:rPr b="0" lang="en-US" sz="2800" spc="-1" strike="noStrike">
                <a:solidFill>
                  <a:srgbClr val="c82e32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Conjugate acid +Conjugate base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is an equilibrium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82e32"/>
                </a:solidFill>
                <a:latin typeface="Arial"/>
              </a:rPr>
              <a:t>Competitio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c82e32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H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c82e32"/>
                </a:solidFill>
                <a:latin typeface="Arial"/>
              </a:rPr>
              <a:t>betwee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H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 and A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on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f H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 is a stronger base it will take the H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Equilibrium moves to right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s of Anions with Wa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nions are bas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s such, they can react with water in a </a:t>
            </a:r>
            <a:r>
              <a:rPr b="0" lang="en-US" sz="3200" spc="-1" strike="noStrike">
                <a:solidFill>
                  <a:srgbClr val="00006c"/>
                </a:solidFill>
                <a:latin typeface="Arial"/>
              </a:rPr>
              <a:t>hydrolysis reactio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to form O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nd the conjugate acid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96" name="Group 10"/>
          <p:cNvGrpSpPr/>
          <p:nvPr/>
        </p:nvGrpSpPr>
        <p:grpSpPr>
          <a:xfrm>
            <a:off x="741960" y="4495680"/>
            <a:ext cx="7531560" cy="579600"/>
            <a:chOff x="741960" y="4495680"/>
            <a:chExt cx="7531560" cy="579600"/>
          </a:xfrm>
        </p:grpSpPr>
        <p:sp>
          <p:nvSpPr>
            <p:cNvPr id="297" name="Rectangle 4"/>
            <p:cNvSpPr/>
            <p:nvPr/>
          </p:nvSpPr>
          <p:spPr>
            <a:xfrm>
              <a:off x="741960" y="4495680"/>
              <a:ext cx="241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X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-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5"/>
            <p:cNvSpPr/>
            <p:nvPr/>
          </p:nvSpPr>
          <p:spPr>
            <a:xfrm>
              <a:off x="5488200" y="4495680"/>
              <a:ext cx="278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HX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OH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-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Picture 8" descr="equilibrium"/>
            <p:cNvPicPr/>
            <p:nvPr/>
          </p:nvPicPr>
          <p:blipFill>
            <a:blip r:embed="rId1"/>
            <a:stretch/>
          </p:blipFill>
          <p:spPr>
            <a:xfrm>
              <a:off x="3605760" y="4635360"/>
              <a:ext cx="160200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asic Sal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the anion of a salt is the conjugate base of a weak acid, it will create a basic solu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an aqueous solution of NaF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major species are Na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F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and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+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c82e32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F + 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=[HF][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   [F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ut Ka = [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[F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  [HF]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1828800" y="441972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2590920" y="541008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s of Cations with Wa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29000" y="2362320"/>
            <a:ext cx="5029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tions with acidic protons (like 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 will lower the pH of a solu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ost metal cations that are hydrated in solution also lower the pH of the solu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06" name="Picture 5" descr="16_15"/>
          <p:cNvPicPr/>
          <p:nvPr/>
        </p:nvPicPr>
        <p:blipFill>
          <a:blip r:embed="rId1"/>
          <a:srcRect l="0" t="0" r="0" b="3717"/>
          <a:stretch/>
        </p:blipFill>
        <p:spPr>
          <a:xfrm>
            <a:off x="380880" y="1447920"/>
            <a:ext cx="2376720" cy="457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s of Cations with Wa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124080" y="1905120"/>
            <a:ext cx="5639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ttraction between nonbonding electrons on oxygen and the metal causes a shift of the electron density in wa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makes the O-H bond more polar and the water more acidic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Greater charge and smaller size make a cation more acidic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09" name="Picture 4" descr="16_15"/>
          <p:cNvPicPr/>
          <p:nvPr/>
        </p:nvPicPr>
        <p:blipFill>
          <a:blip r:embed="rId1"/>
          <a:srcRect l="0" t="0" r="0" b="3717"/>
          <a:stretch/>
        </p:blipFill>
        <p:spPr>
          <a:xfrm>
            <a:off x="380880" y="1447920"/>
            <a:ext cx="2376720" cy="457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cidic sal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 salt with the cation of a weak base and the anion of a strong acid will be basic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x 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= 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lculate the pH of a solution of 0.40 M 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l (the 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.8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5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lculate the pH of a solution of 0.10 M 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l (the 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.8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5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nion of weak acid, cation of weak bas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&gt; K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b 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cidic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&lt; K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basic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K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ffect of Cations and An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4197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c82e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n anion that is the conjugate base of a strong acid will not affect the pH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82e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n anion that is the conjugate base of a weak acid will increase the pH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82e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 cation that is the conjugate acid of a weak base will decrease the pH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18" name="Picture 8" descr="16_11"/>
          <p:cNvPicPr/>
          <p:nvPr/>
        </p:nvPicPr>
        <p:blipFill>
          <a:blip r:embed="rId1"/>
          <a:srcRect l="0" t="0" r="0" b="11485"/>
          <a:stretch/>
        </p:blipFill>
        <p:spPr>
          <a:xfrm>
            <a:off x="609480" y="1981080"/>
            <a:ext cx="3711600" cy="1828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16_16"/>
          <p:cNvPicPr/>
          <p:nvPr/>
        </p:nvPicPr>
        <p:blipFill>
          <a:blip r:embed="rId2"/>
          <a:srcRect l="0" t="0" r="0" b="3905"/>
          <a:stretch/>
        </p:blipFill>
        <p:spPr>
          <a:xfrm>
            <a:off x="228600" y="4114800"/>
            <a:ext cx="4114800" cy="2278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ffect of Cations and An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ations of the strong Arrhenius bases will not affect the pH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ther metal ions will cause a decrease in pH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When a solution contains both the conjugate base of a weak acid and the conjugate acid of a weak base, the affect on pH depends on the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c82e32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values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22" name="Picture 4" descr="16_11"/>
          <p:cNvPicPr/>
          <p:nvPr/>
        </p:nvPicPr>
        <p:blipFill>
          <a:blip r:embed="rId1"/>
          <a:srcRect l="0" t="0" r="0" b="11490"/>
          <a:stretch/>
        </p:blipFill>
        <p:spPr>
          <a:xfrm>
            <a:off x="4648320" y="198108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16_16"/>
          <p:cNvPicPr/>
          <p:nvPr/>
        </p:nvPicPr>
        <p:blipFill>
          <a:blip r:embed="rId2"/>
          <a:srcRect l="0" t="0" r="0" b="3911"/>
          <a:stretch/>
        </p:blipFill>
        <p:spPr>
          <a:xfrm>
            <a:off x="4648320" y="4114800"/>
            <a:ext cx="380988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ctors Affecting Acid Strengt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more polar the H-X bond and/or the weaker the H-X bond, the more acidic the compoun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o acidity increases from left to right across a row and from top to bottom down a group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26" name="Picture 5" descr="16_12"/>
          <p:cNvPicPr/>
          <p:nvPr/>
        </p:nvPicPr>
        <p:blipFill>
          <a:blip r:embed="rId1"/>
          <a:srcRect l="0" t="0" r="0" b="7164"/>
          <a:stretch/>
        </p:blipFill>
        <p:spPr>
          <a:xfrm>
            <a:off x="2268360" y="1676520"/>
            <a:ext cx="460728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If it can either add or lose a proton it is </a:t>
            </a:r>
            <a:r>
              <a:rPr b="0" lang="en-US" sz="3600" spc="-1" strike="noStrike">
                <a:solidFill>
                  <a:srgbClr val="00006c"/>
                </a:solidFill>
                <a:latin typeface="Arial"/>
              </a:rPr>
              <a:t>amphiprotic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.  Such as….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12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2e32"/>
                </a:solidFill>
                <a:latin typeface="Arial"/>
              </a:rPr>
              <a:t>HCO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54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c82e32"/>
              </a:solidFill>
              <a:latin typeface="Arial"/>
            </a:endParaRPr>
          </a:p>
          <a:p>
            <a:pPr marL="312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2e32"/>
                </a:solidFill>
                <a:latin typeface="Arial"/>
              </a:rPr>
              <a:t>HSO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54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c82e32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82e32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1904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ctors Affecting Acid Strengt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oxyacids, in which an -OH is bonded to another atom, Y, the more electronegative Y is, the more acidic the aci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29" name="Picture 6" descr="16_13"/>
          <p:cNvPicPr/>
          <p:nvPr/>
        </p:nvPicPr>
        <p:blipFill>
          <a:blip r:embed="rId1"/>
          <a:srcRect l="0" t="0" r="0" b="5575"/>
          <a:stretch/>
        </p:blipFill>
        <p:spPr>
          <a:xfrm>
            <a:off x="4572000" y="1752480"/>
            <a:ext cx="3986280" cy="1981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0" descr="16_T06"/>
          <p:cNvPicPr/>
          <p:nvPr/>
        </p:nvPicPr>
        <p:blipFill>
          <a:blip r:embed="rId2"/>
          <a:srcRect l="0" t="0" r="0" b="4571"/>
          <a:stretch/>
        </p:blipFill>
        <p:spPr>
          <a:xfrm>
            <a:off x="4514760" y="3962520"/>
            <a:ext cx="363852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1904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ctors Affecting Acid Strengt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a series of oxyacids, acidity increases with the number of oxyge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33" name="Picture 5" descr="16_13-01UN"/>
          <p:cNvPicPr/>
          <p:nvPr/>
        </p:nvPicPr>
        <p:blipFill>
          <a:blip r:embed="rId1"/>
          <a:srcRect l="0" t="0" r="0" b="7613"/>
          <a:stretch/>
        </p:blipFill>
        <p:spPr>
          <a:xfrm>
            <a:off x="1298520" y="1752480"/>
            <a:ext cx="654516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4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ctors Affecting Acid Strengt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esonance in the conjugate bases of carboxylic acids stabilizes the base and makes the conjugate acid more acidic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36" name="Picture 5" descr="16_13-04UN"/>
          <p:cNvPicPr/>
          <p:nvPr/>
        </p:nvPicPr>
        <p:blipFill>
          <a:blip r:embed="rId1"/>
          <a:srcRect l="0" t="0" r="0" b="7699"/>
          <a:stretch/>
        </p:blipFill>
        <p:spPr>
          <a:xfrm>
            <a:off x="1254240" y="4114800"/>
            <a:ext cx="66340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Hydrated me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ighly charged metal ions pull the electrons of surrounding water molecules toward them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Make it easier for H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to come off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5372280" y="3243240"/>
            <a:ext cx="1242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6524640" y="3238560"/>
            <a:ext cx="657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7188120" y="2676600"/>
            <a:ext cx="657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7188120" y="3772080"/>
            <a:ext cx="657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8"/>
          <p:cNvSpPr/>
          <p:nvPr/>
        </p:nvSpPr>
        <p:spPr>
          <a:xfrm>
            <a:off x="5986440" y="3543480"/>
            <a:ext cx="48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6858000" y="3686040"/>
            <a:ext cx="343080" cy="30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6858000" y="3022560"/>
            <a:ext cx="343080" cy="30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rc 11"/>
          <p:cNvSpPr/>
          <p:nvPr/>
        </p:nvSpPr>
        <p:spPr>
          <a:xfrm>
            <a:off x="5738760" y="3759120"/>
            <a:ext cx="1357200" cy="74304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cid-Base Properties of Oxid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on-metal oxides dissolved in water make acid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(g) +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(l)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(aq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etal oxides dissolved in water produce ba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O(s) +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(l)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(OH)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(aq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9" name="Freeform 1028"/>
          <p:cNvSpPr/>
          <p:nvPr/>
        </p:nvSpPr>
        <p:spPr>
          <a:xfrm>
            <a:off x="3809880" y="2362320"/>
            <a:ext cx="611280" cy="268200"/>
          </a:xfrm>
          <a:custGeom>
            <a:avLst/>
            <a:gdLst>
              <a:gd name="textAreaLeft" fmla="*/ 0 w 611280"/>
              <a:gd name="textAreaRight" fmla="*/ 611280 w 61128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385" h="169">
                <a:moveTo>
                  <a:pt x="0" y="81"/>
                </a:moveTo>
                <a:lnTo>
                  <a:pt x="378" y="81"/>
                </a:lnTo>
                <a:lnTo>
                  <a:pt x="300" y="0"/>
                </a:lnTo>
                <a:lnTo>
                  <a:pt x="384" y="84"/>
                </a:lnTo>
                <a:lnTo>
                  <a:pt x="300" y="16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029"/>
          <p:cNvSpPr/>
          <p:nvPr/>
        </p:nvSpPr>
        <p:spPr>
          <a:xfrm>
            <a:off x="3733920" y="3809880"/>
            <a:ext cx="610920" cy="268560"/>
          </a:xfrm>
          <a:custGeom>
            <a:avLst/>
            <a:gdLst>
              <a:gd name="textAreaLeft" fmla="*/ 0 w 610920"/>
              <a:gd name="textAreaRight" fmla="*/ 611280 w 61092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385" h="169">
                <a:moveTo>
                  <a:pt x="0" y="81"/>
                </a:moveTo>
                <a:lnTo>
                  <a:pt x="378" y="81"/>
                </a:lnTo>
                <a:lnTo>
                  <a:pt x="300" y="0"/>
                </a:lnTo>
                <a:lnTo>
                  <a:pt x="384" y="84"/>
                </a:lnTo>
                <a:lnTo>
                  <a:pt x="300" y="16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Lewis Aci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Lewis acids are defined as electron-pair accepto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toms with an empty valence orbital can be Lewis acid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53" name="Picture 5" descr="16_13-06UN"/>
          <p:cNvPicPr/>
          <p:nvPr/>
        </p:nvPicPr>
        <p:blipFill>
          <a:blip r:embed="rId1"/>
          <a:srcRect l="0" t="0" r="0" b="5504"/>
          <a:stretch/>
        </p:blipFill>
        <p:spPr>
          <a:xfrm>
            <a:off x="2271600" y="1752480"/>
            <a:ext cx="459756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Lewis Ba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38862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Lewis bases are defined as electron-pair dono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nything that could be a Brønsted-Lowry base is a Lewis bas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Lewis bases can interact with things other than protons, howev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56" name="Picture 4" descr="16_13-06UN"/>
          <p:cNvPicPr/>
          <p:nvPr/>
        </p:nvPicPr>
        <p:blipFill>
          <a:blip r:embed="rId1"/>
          <a:srcRect l="0" t="0" r="0" b="5504"/>
          <a:stretch/>
        </p:blipFill>
        <p:spPr>
          <a:xfrm>
            <a:off x="2271600" y="1752480"/>
            <a:ext cx="459756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hat Happens When an Acid Dissolves in Water?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ater acts as a Brønsted-Lowry base and attracts a proton (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 from the aci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a result, the </a:t>
            </a:r>
            <a:r>
              <a:rPr b="0" lang="en-US" sz="2800" spc="-1" strike="noStrike">
                <a:solidFill>
                  <a:srgbClr val="00006c"/>
                </a:solidFill>
                <a:latin typeface="Arial"/>
              </a:rPr>
              <a:t>conjugate bas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the acid and a </a:t>
            </a:r>
            <a:r>
              <a:rPr b="0" lang="en-US" sz="2800" spc="-1" strike="noStrike">
                <a:solidFill>
                  <a:srgbClr val="00006c"/>
                </a:solidFill>
                <a:latin typeface="Arial"/>
              </a:rPr>
              <a:t>hydronium io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form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6" name="Picture 5" descr="16_02"/>
          <p:cNvPicPr/>
          <p:nvPr/>
        </p:nvPicPr>
        <p:blipFill>
          <a:blip r:embed="rId1"/>
          <a:srcRect l="0" t="0" r="0" b="3364"/>
          <a:stretch/>
        </p:blipFill>
        <p:spPr>
          <a:xfrm>
            <a:off x="304920" y="2190600"/>
            <a:ext cx="3894120" cy="364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1T05:10:16Z</dcterms:created>
  <dc:creator>John Bookstaver</dc:creator>
  <dc:description/>
  <dc:language>en-US</dc:language>
  <cp:lastModifiedBy>Windows User</cp:lastModifiedBy>
  <dcterms:modified xsi:type="dcterms:W3CDTF">2010-12-07T18:02:02Z</dcterms:modified>
  <cp:revision>81</cp:revision>
  <dc:subject/>
  <dc:title>Chapter 15 Acids and Bases</dc:title>
</cp:coreProperties>
</file>